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71A-3C7B-42C0-B680-EE5783FD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02B-1894-4278-9EEB-1C71B162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80C-35C3-4BC0-AEB8-1A3A2040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9EC-E9AF-4F4B-9834-F58AA298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1E2-B51B-450C-AA51-5CBEC6D5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456-EB15-46BA-BD8B-368B329C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F95-D89D-4145-B929-89EEF6C7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8F0-854D-4BA9-986F-1FAB7007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B37-959C-442C-B83C-276CA90B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720-918E-4D4D-A2A7-4A2D875D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A09-F2C4-450D-B8CD-0D1BDCB1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A7A-0BCF-4A73-A72D-5755B57A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229A-2C60-407A-8816-F7EB1429D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920"/>
            <a:ext cx="3429000" cy="9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غنّوا يـا أبنـاءَ اللهِ</a:t>
            </a:r>
            <a:r>
              <a:rPr b="1" lang="en-US" sz="42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42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يسـوع المسيح قـا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لبَ الموتَ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لكُ الكون زال سلطانُ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ظلا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بنُ اللـهِ رب الحيـاةِ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حيٌّ الى دهرِ الدهـــو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ن النـورِ الذي لا يغرُب تعالَوا وخذوا النو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738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3505320" cy="11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امَ الربُ وطىءَ الموتَ إِفرحــي أورشليـم       كلُّ شيءٍ صار جديداً قدّ تبدَل القديم            اللهً حيٌّ بين شعبهِ جعل مسكنه معهم لا أحزان لا أوجاعَ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دموع بعـد اليو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5892840" cy="739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304920"/>
            <a:ext cx="4038480" cy="9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عدُ اللـه قد تحقق تم قول الأنبيـاء   كنّا من قبل أمواتاً فصِرنا الآن أحياء قمنا مَعَهُ سنملك معهُ ليس لملكِه انقض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معهُ سنحيا الى الابد </a:t>
            </a: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لن يطالنـــا  الفنـ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7543800" cy="739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886200" cy="11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شعب الله إرفع رأسك إنّ إلهك عظيم             أين شوكتك يا موتُ وغلبتك يا جحيم موتُ الربِ صار حياةً أضحى نصرُنا  أكيد هيّا نفرَح ونهلّـل </a:t>
            </a:r>
            <a:r>
              <a:rPr b="1" lang="ar-SA" sz="42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أهلَ الملكوت الجديــد</a:t>
            </a:r>
            <a:r>
              <a:rPr b="0" lang="ar-SA" sz="42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10:11:46Z</dcterms:created>
  <dc:creator>SUZANNE.MD</dc:creator>
  <dc:description/>
  <dc:language>en-US</dc:language>
  <cp:lastModifiedBy>HANI SAFI</cp:lastModifiedBy>
  <dcterms:modified xsi:type="dcterms:W3CDTF">2003-04-16T13:55:35Z</dcterms:modified>
  <cp:revision>2</cp:revision>
  <dc:subject/>
  <dc:title>PowerPoint Presentation</dc:title>
</cp:coreProperties>
</file>